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A54-FFAC-42BA-8127-E6A41ED8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721-2BBB-4FE4-AF82-D7670924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0B4-6D3A-413D-AC07-A1CB4A64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FB7-00E6-48BE-ABC5-4E2E3FF2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60E-0E2E-4ED6-A666-9EAA0354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073-B047-4203-B396-82338A2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8BE-A825-4152-B7C9-E2A7AAD3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CC3-0C2A-46D1-9014-BDC57A8A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4BA-5182-4876-B2E9-EA0BB200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13B-594E-4D98-98C2-45BB014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329-D093-422B-86A7-D2914D64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8C4-2172-4CFD-8E10-47EB0C53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FF58-198F-4C3A-B56D-A47E4DDDA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a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Vaugh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my slide 2. My name is Vaugh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825640" cy="286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86200" y="2620800"/>
            <a:ext cx="5257800" cy="423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36576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at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s can sometimes be a friend to you. They are cu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413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78035E-007 C -0.23229 0.18636 -0.46458 0.37272 -0.44444 0.28139 C -0.4243 0.19006 0.14983 -0.45387 0.12066 -0.54728 C 0.0915 -0.64069 -0.58715 -0.42636 -0.61892 -0.27884 C -0.65069 -0.13156 -0.12899 0.31861 -0.06996 0.33619 C -0.01094 0.35376 -0.2816 -0.10913 -0.26493 -0.17341 C -0.24826 -0.23722 -0.02187 -0.07098 0.03021 -0.04855 C 0.08195 -0.02613 0.0434 -0.04 0.04618 -0.03792 E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54620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76520" y="1522440"/>
            <a:ext cx="2914560" cy="175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3:32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42Z</dcterms:modified>
  <cp:revision>10</cp:revision>
  <dc:subject/>
  <dc:title>Big cat</dc:title>
</cp:coreProperties>
</file>